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46E3E-1A32-4E87-9B9B-0DDF18881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time f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time fi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806-F7FE-4B86-9822-F5AE56E2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D64-CC67-4A6C-8E62-B966C1D5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504-3465-436C-970A-ACB32A73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EC0-3F0C-4E1A-B471-FE380280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9AEF-E73B-4A9B-9CCF-45896E95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1C32-E6CE-413C-AED8-847C7566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91C7-FEC0-444D-90EB-8AC44E72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BDED-89E0-4F3D-A2B5-56A12CC2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0A5D-0EC3-4614-BA1E-3B948D19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4871-3EB6-40C1-B090-14D45AEF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73BC-30B3-4E83-B0B7-A4D0C9C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04D-4639-48AF-B5B1-821B0F47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27E7-E0CE-4068-B795-30EA402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89A6-717B-4E49-9A24-6CB44ECA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8EE6-8D5C-4DCF-B20E-D4062264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E346-51E6-4EBF-91CD-305167DD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F4CA-918C-4CD1-B7C9-7E629AF1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2B8-F0CD-4B12-9572-864295C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6D0-C0FE-435C-A615-23C09F37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65A-C6AE-4E0E-B265-9E922E2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555-43EF-4CC7-A1C9-C3A73671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C60-1E49-4F03-B7DF-55BFEDBE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1C8-9E5D-47CF-94C2-C1AB0C6A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061-BDAA-4CD3-BE78-0CDDE97C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1212a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29F8-9550-4699-AC52-98DF47EB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1212a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1212a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ECB-834B-4AB0-82A5-AECABD921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26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212a6"/>
                </a:solidFill>
                <a:latin typeface="Century Gothic"/>
              </a:rPr>
              <a:t>Better Presentations</a:t>
            </a: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S. Woodward 2008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8080" y="14108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212a6"/>
                </a:solidFill>
                <a:latin typeface="Century Gothic"/>
              </a:rPr>
              <a:t>Good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 Pics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Instructive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Albertus Extra Bold"/>
              </a:rPr>
              <a:t>The Westward Expansion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Extra Bold"/>
              </a:rPr>
              <a:t>The Gold Rush started in 1848 and the migration ended in 1856.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42595"/>
          <a:stretch/>
        </p:blipFill>
        <p:spPr>
          <a:xfrm>
            <a:off x="4572000" y="228600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cc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7920" y="304920"/>
            <a:ext cx="11963520" cy="8315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373392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Albertus Extra Bold"/>
              </a:rPr>
              <a:t>Gold Rush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12a6"/>
                </a:solidFill>
                <a:latin typeface="Albertus Extra Bold"/>
              </a:rPr>
              <a:t>1848 - 56</a:t>
            </a:r>
            <a:endParaRPr b="1" lang="en-US" sz="48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hewing tobacco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Causes cancer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08200" y="-2057400"/>
            <a:ext cx="6535800" cy="9829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838080" y="1066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f661d"/>
                </a:solidFill>
                <a:latin typeface="Century Gothic"/>
              </a:rPr>
              <a:t> </a:t>
            </a:r>
            <a:r>
              <a:rPr b="0" lang="en-US" sz="6000" spc="-1" strike="noStrike">
                <a:solidFill>
                  <a:srgbClr val="af661d"/>
                </a:solidFill>
                <a:latin typeface="Century Gothic"/>
              </a:rPr>
              <a:t>Loss of Jaw</a:t>
            </a: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55468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bnormal growt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153280" cy="5805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40040" y="326376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al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212a6"/>
                </a:solidFill>
                <a:latin typeface="Century Gothic"/>
              </a:rPr>
              <a:t>Less Text</a:t>
            </a:r>
            <a:endParaRPr b="1" lang="en-US" sz="54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Transport people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store food in humps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also stores water too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also they don’t have to drink water for weeks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12a6"/>
                </a:solidFill>
                <a:latin typeface="Albertus Medium"/>
              </a:rPr>
              <a:t>these animals are useful</a:t>
            </a: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124080" y="45720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ame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10392" r="10377" b="0"/>
          <a:stretch/>
        </p:blipFill>
        <p:spPr>
          <a:xfrm>
            <a:off x="4648320" y="2057400"/>
            <a:ext cx="358128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rcRect l="11668" t="0" r="25005" b="352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2520" y="3505320"/>
            <a:ext cx="3886200" cy="11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212a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Albertus Medium"/>
              </a:rPr>
              <a:t>store food &amp; water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638320" y="1599840"/>
            <a:ext cx="838440" cy="15238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162920" y="1447920"/>
            <a:ext cx="152280" cy="167616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16561" t="25590" r="24017" b="254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52320" y="304920"/>
            <a:ext cx="403884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12a6"/>
                </a:solidFill>
                <a:latin typeface="Arial"/>
              </a:rPr>
              <a:t>Transportation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514600"/>
            <a:ext cx="457200" cy="12952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428640" y="4419720"/>
            <a:ext cx="762120" cy="76176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5029200"/>
            <a:ext cx="457200" cy="129528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80200" y="1281240"/>
            <a:ext cx="7920" cy="1323720"/>
          </a:xfrm>
          <a:prstGeom prst="line">
            <a:avLst/>
          </a:prstGeom>
          <a:ln w="5400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853920" y="-376200"/>
            <a:ext cx="10005840" cy="79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38960" y="2209680"/>
            <a:ext cx="3605040" cy="4648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81280" y="1447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Greater Sulfur Crested Cockat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676520"/>
            <a:ext cx="4419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st smells like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st is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llow under wings (like umbrella cockato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ning: They’re lou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 is 5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gh to 750 to 900 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-914400"/>
            <a:ext cx="6383520" cy="8229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920" y="5334120"/>
            <a:ext cx="4724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ells like sulfu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86000" y="2819520"/>
            <a:ext cx="1905120" cy="2590560"/>
          </a:xfrm>
          <a:prstGeom prst="line">
            <a:avLst/>
          </a:prstGeom>
          <a:ln w="10152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9520" y="380880"/>
            <a:ext cx="28497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19111" t="0" r="21217" b="62965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304920"/>
            <a:ext cx="25905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UD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838080" y="2133360"/>
            <a:ext cx="3733920" cy="281916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56840" y="3352320"/>
            <a:ext cx="3962520" cy="175284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0520" y="4419720"/>
            <a:ext cx="3886200" cy="91440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160" y="5562720"/>
            <a:ext cx="3733560" cy="53316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48120" y="5791320"/>
            <a:ext cx="1371600" cy="1066680"/>
          </a:xfrm>
          <a:prstGeom prst="line">
            <a:avLst/>
          </a:prstGeom>
          <a:ln w="76320">
            <a:solidFill>
              <a:srgbClr val="fcf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212a6"/>
                </a:solidFill>
                <a:latin typeface="Century Gothic"/>
              </a:rPr>
              <a:t>Show</a:t>
            </a:r>
            <a:r>
              <a:rPr b="1" lang="en-US" sz="5400" spc="-1" strike="noStrike">
                <a:solidFill>
                  <a:srgbClr val="1212a6"/>
                </a:solidFill>
                <a:latin typeface="Century Gothic"/>
              </a:rPr>
              <a:t> Comparison</a:t>
            </a:r>
            <a:endParaRPr b="1" lang="en-US" sz="54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304920"/>
            <a:ext cx="3698640" cy="13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921"/>
                <a:gd name="adj2" fmla="val -1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ife Spa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5053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296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36576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                 10                 15                20                25                 30                35                  40                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657240" y="2057400"/>
            <a:ext cx="121932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1676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irrel mon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505320"/>
            <a:ext cx="457200" cy="1657080"/>
          </a:xfrm>
          <a:custGeom>
            <a:avLst/>
            <a:gdLst/>
            <a:ahLst/>
            <a:rect l="l" t="t" r="r" b="b"/>
            <a:pathLst>
              <a:path w="288" h="1044">
                <a:moveTo>
                  <a:pt x="0" y="1044"/>
                </a:moveTo>
                <a:lnTo>
                  <a:pt x="55" y="853"/>
                </a:lnTo>
                <a:lnTo>
                  <a:pt x="288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50292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uchin mon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is line graph is in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5999" t="33333" r="18999" b="18667"/>
          <a:stretch/>
        </p:blipFill>
        <p:spPr>
          <a:xfrm>
            <a:off x="0" y="0"/>
            <a:ext cx="10266480" cy="7164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5999" t="33333" r="18999" b="18667"/>
          <a:stretch/>
        </p:blipFill>
        <p:spPr>
          <a:xfrm>
            <a:off x="0" y="0"/>
            <a:ext cx="10266480" cy="7164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442880" y="1849320"/>
            <a:ext cx="4897440" cy="5008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Plu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5999" t="33333" r="18999" b="18667"/>
          <a:stretch/>
        </p:blipFill>
        <p:spPr>
          <a:xfrm>
            <a:off x="0" y="0"/>
            <a:ext cx="10266480" cy="7164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38120" y="1042920"/>
            <a:ext cx="5691240" cy="581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2880" y="1849320"/>
            <a:ext cx="4897440" cy="50086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Plu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24120" y="1185480"/>
            <a:ext cx="350064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12a6"/>
                </a:solidFill>
                <a:latin typeface="Arial Black"/>
              </a:rPr>
              <a:t>Moon</a:t>
            </a:r>
            <a:endParaRPr b="1" lang="en-US" sz="48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8080" y="14108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212a6"/>
                </a:solidFill>
                <a:latin typeface="Century Gothic"/>
              </a:rPr>
              <a:t>Good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 Pics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provocative (introduction)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-200160"/>
            <a:ext cx="10910880" cy="705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22120" y="257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Consumer </a:t>
            </a: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Producer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3187800"/>
            <a:ext cx="2100240" cy="0"/>
          </a:xfrm>
          <a:prstGeom prst="line">
            <a:avLst/>
          </a:prstGeom>
          <a:ln w="44280">
            <a:solidFill>
              <a:srgbClr val="3366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720" y="779040"/>
            <a:ext cx="77724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212a6"/>
                </a:solidFill>
                <a:latin typeface="Century Gothic"/>
              </a:rPr>
              <a:t>Students</a:t>
            </a:r>
            <a:endParaRPr b="1" lang="en-US" sz="54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Sample 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-66600" y="-17640"/>
            <a:ext cx="986616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6400" y="158904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24021" t="3919" r="2688" b="7862"/>
          <a:stretch/>
        </p:blipFill>
        <p:spPr>
          <a:xfrm>
            <a:off x="-210960" y="-246240"/>
            <a:ext cx="9799560" cy="884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8360" y="2157480"/>
            <a:ext cx="313200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5158" r="0" b="11634"/>
          <a:stretch/>
        </p:blipFill>
        <p:spPr>
          <a:xfrm>
            <a:off x="619200" y="-318960"/>
            <a:ext cx="7250040" cy="82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1520" y="1459080"/>
            <a:ext cx="8772480" cy="51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Less Text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Big pics &amp; crop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Good Pics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High resolution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Instructive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Provocative (introduction)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Compare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0680" y="3222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212a6"/>
                </a:solidFill>
                <a:latin typeface="Century Gothic"/>
              </a:rPr>
              <a:t>Summary</a:t>
            </a:r>
            <a:endParaRPr b="1" lang="en-US" sz="6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Easy Timelines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Easy Organization Chart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Nationmaster.com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Slideshare.net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8080" y="14108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212a6"/>
                </a:solidFill>
                <a:latin typeface="Century Gothic"/>
              </a:rPr>
              <a:t>Good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 Pics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High resolution</a:t>
            </a:r>
            <a:br>
              <a:rPr sz="4000"/>
            </a:b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	</a:t>
            </a:r>
            <a:endParaRPr b="1" lang="en-US" sz="40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Pictures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7040" y="131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Big to Small  vs.  Small to Big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6569" t="24679" r="48744" b="26232"/>
          <a:stretch/>
        </p:blipFill>
        <p:spPr>
          <a:xfrm>
            <a:off x="4751280" y="1901880"/>
            <a:ext cx="4392720" cy="467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5648" t="25095" r="48779" b="25830"/>
          <a:stretch/>
        </p:blipFill>
        <p:spPr>
          <a:xfrm>
            <a:off x="0" y="1906560"/>
            <a:ext cx="454500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966960" y="1933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212a6"/>
                </a:solidFill>
                <a:latin typeface="Century Gothic"/>
              </a:rPr>
              <a:t>Make Pics </a:t>
            </a:r>
            <a:r>
              <a:rPr b="1" lang="en-US" sz="7200" spc="-1" strike="noStrike">
                <a:solidFill>
                  <a:srgbClr val="1212a6"/>
                </a:solidFill>
                <a:latin typeface="Century Gothic"/>
              </a:rPr>
              <a:t>BIG</a:t>
            </a:r>
            <a:br>
              <a:rPr sz="7200"/>
            </a:br>
            <a:endParaRPr b="1" lang="en-US" sz="72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03" name=""/>
          <p:cNvSpPr/>
          <p:nvPr/>
        </p:nvSpPr>
        <p:spPr>
          <a:xfrm>
            <a:off x="973080" y="3679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12a6"/>
                </a:solidFill>
                <a:latin typeface="Century Gothic"/>
              </a:rPr>
              <a:t>&amp; use Crop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Pictures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6120" y="2898720"/>
            <a:ext cx="380376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Make pictures large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06640" y="2252520"/>
            <a:ext cx="33462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30079" t="38332" r="39706" b="28149"/>
          <a:stretch/>
        </p:blipFill>
        <p:spPr>
          <a:xfrm>
            <a:off x="0" y="-527040"/>
            <a:ext cx="9144000" cy="7385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1600" y="4146480"/>
            <a:ext cx="3055680" cy="7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212a6"/>
                </a:solidFill>
                <a:latin typeface="Century Gothic"/>
              </a:rPr>
              <a:t>Ahhh, better</a:t>
            </a:r>
            <a:endParaRPr b="1" lang="en-US" sz="3600" spc="-1" strike="noStrike">
              <a:solidFill>
                <a:srgbClr val="1212a6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212a6"/>
                </a:solidFill>
                <a:latin typeface="Century Gothic"/>
              </a:rPr>
              <a:t>Pictures</a:t>
            </a:r>
            <a:endParaRPr b="1" lang="en-US" sz="4400" spc="-1" strike="noStrike">
              <a:solidFill>
                <a:srgbClr val="1212a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80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Right-click to copy from internet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paste into slide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1212a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12a6"/>
                </a:solidFill>
                <a:latin typeface="Century Gothic"/>
              </a:rPr>
              <a:t>use cropping tool to adjust size</a:t>
            </a: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212a6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12a6"/>
              </a:solidFill>
              <a:latin typeface="Century Gothi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0710" t="86531" r="73990" b="7207"/>
          <a:stretch/>
        </p:blipFill>
        <p:spPr>
          <a:xfrm>
            <a:off x="6611760" y="3276720"/>
            <a:ext cx="2379960" cy="2109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337" t="86531" r="58203" b="7207"/>
          <a:stretch/>
        </p:blipFill>
        <p:spPr>
          <a:xfrm>
            <a:off x="438120" y="4081320"/>
            <a:ext cx="6039000" cy="757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41240" y="5732640"/>
            <a:ext cx="1833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6080" y="3332160"/>
            <a:ext cx="389160" cy="901800"/>
          </a:xfrm>
          <a:prstGeom prst="line">
            <a:avLst/>
          </a:prstGeom>
          <a:ln w="1080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83040" y="3290760"/>
            <a:ext cx="4197240" cy="900360"/>
          </a:xfrm>
          <a:prstGeom prst="line">
            <a:avLst/>
          </a:prstGeom>
          <a:ln w="10800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21:22:14Z</dcterms:created>
  <dc:creator>redondo beach</dc:creator>
  <dc:description/>
  <dc:language>en-US</dc:language>
  <cp:lastModifiedBy>User</cp:lastModifiedBy>
  <dcterms:modified xsi:type="dcterms:W3CDTF">2008-08-05T18:03:50Z</dcterms:modified>
  <cp:revision>109</cp:revision>
  <dc:subject/>
  <dc:title>No Slide Title</dc:title>
</cp:coreProperties>
</file>